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5F7-FA67-4525-ACAD-B79FCB95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828-0FF7-4B86-AA4E-B620D2E1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6EA-0531-4464-8B2F-63D98C9E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BBC-EC48-453A-9A5F-6F86050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621-CAED-4EF7-A8E4-343BE4D1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13A-3A1E-4082-8C82-EAB97CFC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4B0-D5B5-4461-B570-F6D0CD1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721F-2ADE-4836-9F82-05B6FF0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BB1E-13B9-402F-A540-6DF364BD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6542-5D7D-497B-B986-5E8F21B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5EC-3288-4E48-85A3-E459CB1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920-7EA5-494D-AF5A-9F5EA10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79A-5F60-496A-A3F0-05E95E6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7677-5658-4E5F-A39A-A480A6D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1F33-6428-4C4C-B0CF-897351C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FC9E-AAD4-4357-8965-FA9B148C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0A5-8FB4-4EFA-94A4-1B26EB04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EC9-FCFC-4547-9138-3F9EC543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FEB-7A80-4760-A1B2-036B2C4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0EC-4AE3-47D2-9085-3ADD441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F92-73E9-4B3F-9CBF-82F06518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E1A-67DA-4C33-8C41-BA21B01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2DC-B42C-4F09-BE22-49DB387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30C-2CAD-46D0-9FB4-388A1EC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398-792D-4F85-9DB7-E2A6B30AE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7182-CB95-458B-B7D7-9990047B9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nak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yler Col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you think snakes are interesting? I think they are cool to read about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3429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nakes lay their eggs in a hol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need to stay safe in the 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657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snakes are big and some snakes can kill you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go deep in the forest so they can kill some thing to 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60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nakes move by using their scales and they are very strong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very sharp teeth and they are poisonous rept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6576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y can pop out from a little hole when you’re not looking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live up to  50 years old  and can be up to 80 feet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56390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hope you had a good time learning about snak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WRILAB26</cp:lastModifiedBy>
  <dcterms:modified xsi:type="dcterms:W3CDTF">2008-02-13T15:25:33Z</dcterms:modified>
  <cp:revision>3</cp:revision>
  <dc:subject/>
  <dc:title>Animal Name</dc:title>
</cp:coreProperties>
</file>